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4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</p:sldIdLst>
  <p:sldSz cx="9144000" cy="6858000"/>
  <p:notesSz cx="6800850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8004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5480" cy="372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40320" cy="446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8"/>
          </p:nvPr>
        </p:nvSpPr>
        <p:spPr>
          <a:xfrm>
            <a:off x="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9"/>
          </p:nvPr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9ED95-8AF1-4D47-B744-020A27FDFB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055B8-C7F6-4AE9-B773-0EC5A1D4294C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4032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31F5C-8F67-420D-906C-DF3E7E724EA1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4032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0F3AA-89C1-4A41-8AA9-8605ECB59372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4032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AE455-BE74-4053-A5D2-107BCDAB3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8280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9640" y="1700280"/>
            <a:ext cx="82296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39640" y="3994920"/>
            <a:ext cx="82296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7AE33-4F5A-46DB-BBBB-BF856CEAA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8280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9640" y="1700280"/>
            <a:ext cx="40158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56680" y="1700280"/>
            <a:ext cx="40158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39640" y="3994920"/>
            <a:ext cx="40158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56680" y="3994920"/>
            <a:ext cx="40158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B1354-2F9A-470D-B599-E11727C5B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8280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539640" y="1700280"/>
            <a:ext cx="26496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22080" y="1700280"/>
            <a:ext cx="26496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104520" y="1700280"/>
            <a:ext cx="26496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39640" y="3994920"/>
            <a:ext cx="26496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22080" y="3994920"/>
            <a:ext cx="26496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104520" y="3994920"/>
            <a:ext cx="26496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91A3E-0058-44BC-BFA3-9071CCD47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18606-74DE-46A2-B9E3-B39C30347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8280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539640" y="170028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2AE22-103B-4F90-A69A-776D86164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8280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9640" y="170028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60CCC-5A1B-4965-BC5D-029E65908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8280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9640" y="1700280"/>
            <a:ext cx="40158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56680" y="1700280"/>
            <a:ext cx="40158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4F16B-F23F-4E33-B4CE-FEBCFA576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8280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539D3-3D10-43A9-80A3-77128A581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68000" y="189000"/>
            <a:ext cx="828036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FF2C4-625F-4369-89DF-69C13CDEF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8280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39640" y="1700280"/>
            <a:ext cx="40158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56680" y="1700280"/>
            <a:ext cx="40158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39640" y="3994920"/>
            <a:ext cx="40158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E3BCE-CF9A-43A9-BFC2-5D120BB8D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8280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539640" y="170028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BEC67-CAF7-4058-BB8E-C49DD140A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8280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9640" y="1700280"/>
            <a:ext cx="40158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56680" y="1700280"/>
            <a:ext cx="40158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756680" y="3994920"/>
            <a:ext cx="40158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687BF-50D7-41CE-9BB4-A0CBBAA69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8280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9640" y="1700280"/>
            <a:ext cx="40158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56680" y="1700280"/>
            <a:ext cx="40158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39640" y="3994920"/>
            <a:ext cx="82296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F1AD6-DB9E-4BAC-8B00-0DE2E307B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8280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39640" y="1700280"/>
            <a:ext cx="82296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39640" y="3994920"/>
            <a:ext cx="82296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CEFB7-EC94-4F64-86D0-F258C97C3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8280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39640" y="1700280"/>
            <a:ext cx="40158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56680" y="1700280"/>
            <a:ext cx="40158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39640" y="3994920"/>
            <a:ext cx="40158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756680" y="3994920"/>
            <a:ext cx="40158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3A7EB-E249-47C4-BF01-4198B7B1B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8280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39640" y="1700280"/>
            <a:ext cx="26496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22080" y="1700280"/>
            <a:ext cx="26496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04520" y="1700280"/>
            <a:ext cx="26496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39640" y="3994920"/>
            <a:ext cx="26496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22080" y="3994920"/>
            <a:ext cx="26496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04520" y="3994920"/>
            <a:ext cx="26496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4F89C-26F5-4E6B-88E4-4A016BE36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8280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39640" y="170028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542F5-D27E-445A-B187-30E204FFB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8280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9640" y="1700280"/>
            <a:ext cx="40158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56680" y="1700280"/>
            <a:ext cx="40158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10E79-ABB1-4EE1-B0F4-51CFC4A01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8280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81789-F599-4568-BE76-1A8056DC9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68000" y="189000"/>
            <a:ext cx="828036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35973-AB8B-4AB7-8882-0499D2AC7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8280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9640" y="1700280"/>
            <a:ext cx="40158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56680" y="1700280"/>
            <a:ext cx="40158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39640" y="3994920"/>
            <a:ext cx="40158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17E45-BEC5-4625-A142-20CB82D4C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8280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9640" y="1700280"/>
            <a:ext cx="40158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680" y="1700280"/>
            <a:ext cx="40158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756680" y="3994920"/>
            <a:ext cx="40158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C7BCF-9A7C-435D-BA33-6B3D86BB5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8280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9640" y="1700280"/>
            <a:ext cx="40158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680" y="1700280"/>
            <a:ext cx="40158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39640" y="3994920"/>
            <a:ext cx="82296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A77D9-F649-4C1C-987F-FA743CBBA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1" descr="IUB"/>
          <p:cNvPicPr/>
          <p:nvPr/>
        </p:nvPicPr>
        <p:blipFill>
          <a:blip r:embed="rId2">
            <a:alphaModFix amt="0"/>
          </a:blip>
          <a:stretch/>
        </p:blipFill>
        <p:spPr>
          <a:xfrm>
            <a:off x="7236000" y="115920"/>
            <a:ext cx="1704960" cy="5335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8280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39640" y="170028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2240" indent="-285840">
              <a:spcBef>
                <a:spcPts val="601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30480" indent="-228600">
              <a:spcBef>
                <a:spcPts val="601"/>
              </a:spcBef>
              <a:buClr>
                <a:srgbClr val="00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38360" indent="-228600">
              <a:spcBef>
                <a:spcPts val="601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EA10B-8FBD-4DD1-B1FB-ACC0A6D87A00}" type="slidenum">
              <a:rPr b="0" lang="lv-LV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Line 8"/>
          <p:cNvSpPr/>
          <p:nvPr/>
        </p:nvSpPr>
        <p:spPr>
          <a:xfrm>
            <a:off x="468360" y="1484280"/>
            <a:ext cx="8207280" cy="0"/>
          </a:xfrm>
          <a:prstGeom prst="line">
            <a:avLst/>
          </a:prstGeom>
          <a:ln w="414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1" descr="IUB"/>
          <p:cNvPicPr/>
          <p:nvPr/>
        </p:nvPicPr>
        <p:blipFill>
          <a:blip r:embed="rId2">
            <a:alphaModFix amt="0"/>
          </a:blip>
          <a:stretch/>
        </p:blipFill>
        <p:spPr>
          <a:xfrm>
            <a:off x="7236000" y="115920"/>
            <a:ext cx="1704960" cy="533520"/>
          </a:xfrm>
          <a:prstGeom prst="rect">
            <a:avLst/>
          </a:prstGeom>
          <a:ln w="0">
            <a:noFill/>
          </a:ln>
        </p:spPr>
      </p:pic>
      <p:grpSp>
        <p:nvGrpSpPr>
          <p:cNvPr id="47" name="Group 7"/>
          <p:cNvGrpSpPr/>
          <p:nvPr/>
        </p:nvGrpSpPr>
        <p:grpSpPr>
          <a:xfrm>
            <a:off x="250920" y="3141720"/>
            <a:ext cx="8610480" cy="201600"/>
            <a:chOff x="250920" y="3141720"/>
            <a:chExt cx="8610480" cy="201600"/>
          </a:xfrm>
        </p:grpSpPr>
        <p:sp>
          <p:nvSpPr>
            <p:cNvPr id="48" name="Rectangle 8"/>
            <p:cNvSpPr/>
            <p:nvPr/>
          </p:nvSpPr>
          <p:spPr>
            <a:xfrm>
              <a:off x="250920" y="3141720"/>
              <a:ext cx="2870280" cy="20160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Rectangle 9"/>
            <p:cNvSpPr/>
            <p:nvPr/>
          </p:nvSpPr>
          <p:spPr>
            <a:xfrm>
              <a:off x="3121200" y="3141720"/>
              <a:ext cx="2870280" cy="2016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Rectangle 10"/>
            <p:cNvSpPr/>
            <p:nvPr/>
          </p:nvSpPr>
          <p:spPr>
            <a:xfrm>
              <a:off x="5991480" y="3141720"/>
              <a:ext cx="2869920" cy="2016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8280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539640" y="170028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2240" indent="-285840">
              <a:spcBef>
                <a:spcPts val="601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30480" indent="-228600">
              <a:spcBef>
                <a:spcPts val="601"/>
              </a:spcBef>
              <a:buClr>
                <a:srgbClr val="00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38360" indent="-228600">
              <a:spcBef>
                <a:spcPts val="601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3BEDD-E4E2-4792-A033-BC107A32EC78}" type="slidenum">
              <a:rPr b="0" lang="lv-LV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98160" y="1442520"/>
            <a:ext cx="8280360" cy="355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i="1" lang="lv-LV" sz="3600" spc="-1" strike="noStrike">
                <a:solidFill>
                  <a:srgbClr val="003399"/>
                </a:solidFill>
                <a:latin typeface="Arial"/>
              </a:rPr>
              <a:t>AKTUALITĀTES</a:t>
            </a:r>
            <a:br>
              <a:rPr sz="3600"/>
            </a:br>
            <a:r>
              <a:rPr b="1" i="1" lang="lv-LV" sz="3600" spc="-1" strike="noStrike">
                <a:solidFill>
                  <a:srgbClr val="003399"/>
                </a:solidFill>
                <a:latin typeface="Arial"/>
              </a:rPr>
              <a:t>PUBLISKO IEPIRKUMU JOMĀ</a:t>
            </a:r>
            <a:br>
              <a:rPr sz="3600"/>
            </a:br>
            <a:r>
              <a:rPr b="1" i="1" lang="lv-LV" sz="3600" spc="-1" strike="noStrike">
                <a:solidFill>
                  <a:srgbClr val="003399"/>
                </a:solidFill>
                <a:latin typeface="Arial"/>
              </a:rPr>
              <a:t>IESNIEGUMI PAR </a:t>
            </a:r>
            <a:br>
              <a:rPr sz="3600"/>
            </a:br>
            <a:r>
              <a:rPr b="1" i="1" lang="lv-LV" sz="3600" spc="-1" strike="noStrike">
                <a:solidFill>
                  <a:srgbClr val="003399"/>
                </a:solidFill>
                <a:latin typeface="Arial"/>
              </a:rPr>
              <a:t>PĀRTIKAS IEPIRKUMIEM</a:t>
            </a:r>
            <a:br>
              <a:rPr sz="3600"/>
            </a:br>
            <a:br>
              <a:rPr sz="3600"/>
            </a:br>
            <a:r>
              <a:rPr b="1" i="1" lang="lv-LV" sz="3600" spc="-1" strike="noStrike">
                <a:solidFill>
                  <a:srgbClr val="003399"/>
                </a:solidFill>
                <a:latin typeface="Arial"/>
              </a:rPr>
              <a:t>2014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80960" y="4641480"/>
            <a:ext cx="8229600" cy="16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Arial"/>
              </a:rPr>
              <a:t>Iepirkumu uzraudzības biroj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Arial"/>
              </a:rPr>
              <a:t>Agnese Irme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3EFB9-8B88-4ED0-9A1B-43A0FF14C436}" type="slidenum">
              <a:rPr b="0" lang="lv-LV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8280360" cy="1042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3399"/>
                </a:solidFill>
                <a:latin typeface="Arial"/>
              </a:rPr>
              <a:t>Izmaiņas izslēgšanas noteikumos no 01.08.2013.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37920" y="1571400"/>
            <a:ext cx="7775640" cy="381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lvl="1" marL="78084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lv-LV" sz="2300" spc="-1" strike="noStrike">
                <a:solidFill>
                  <a:srgbClr val="000000"/>
                </a:solidFill>
                <a:latin typeface="Arial"/>
              </a:rPr>
              <a:t>Pasūtītājs ir </a:t>
            </a:r>
            <a:r>
              <a:rPr b="0" lang="lv-LV" sz="2300" spc="-1" strike="noStrike" u="sng">
                <a:solidFill>
                  <a:srgbClr val="000000"/>
                </a:solidFill>
                <a:uFillTx/>
                <a:latin typeface="Arial"/>
              </a:rPr>
              <a:t>tiesīgs </a:t>
            </a:r>
            <a:r>
              <a:rPr b="1" lang="lv-LV" sz="2300" spc="-1" strike="noStrike" u="sng">
                <a:solidFill>
                  <a:srgbClr val="000000"/>
                </a:solidFill>
                <a:uFillTx/>
                <a:latin typeface="Arial"/>
              </a:rPr>
              <a:t>neizslēgt kandidātu vai pretendentu </a:t>
            </a:r>
            <a:r>
              <a:rPr b="0" lang="lv-LV" sz="2300" spc="-1" strike="noStrike">
                <a:solidFill>
                  <a:srgbClr val="000000"/>
                </a:solidFill>
                <a:latin typeface="Arial"/>
              </a:rPr>
              <a:t>iepriekš noslēgtā līguma neizpildes dēļ, tā vietā paredzot </a:t>
            </a:r>
            <a:r>
              <a:rPr b="1" lang="lv-LV" sz="2300" spc="-1" strike="noStrike" u="sng">
                <a:solidFill>
                  <a:srgbClr val="000000"/>
                </a:solidFill>
                <a:uFillTx/>
                <a:latin typeface="Arial"/>
              </a:rPr>
              <a:t>papildu saistību izpildes nodrošinājumu</a:t>
            </a:r>
            <a:r>
              <a:rPr b="0" lang="lv-LV" sz="2300" spc="-1" strike="noStrike">
                <a:solidFill>
                  <a:srgbClr val="000000"/>
                </a:solidFill>
                <a:latin typeface="Arial"/>
              </a:rPr>
              <a:t> (piemēram, bankas garantija vai apdrošināšana par noteiktu naudas summu) vai </a:t>
            </a:r>
            <a:r>
              <a:rPr b="1" lang="lv-LV" sz="2300" spc="-1" strike="noStrike" u="sng">
                <a:solidFill>
                  <a:srgbClr val="000000"/>
                </a:solidFill>
                <a:uFillTx/>
                <a:latin typeface="Arial"/>
              </a:rPr>
              <a:t>tādus noteikumus, kas kandidātam vai pretendentam padara ekonomiski neizdevīgu iepirkuma līguma vai vispārīgās vienošanās būtisku noteikumu neievērošanu</a:t>
            </a:r>
            <a:r>
              <a:rPr b="0" lang="lv-LV" sz="2300" spc="-1" strike="noStrike">
                <a:solidFill>
                  <a:srgbClr val="000000"/>
                </a:solidFill>
                <a:latin typeface="Arial"/>
              </a:rPr>
              <a:t> (piemēram, paredzētā avansa maksājuma samazināšana, tā samaksas atlikšana vai atcelšana).</a:t>
            </a:r>
            <a:r>
              <a:rPr b="1" lang="lv-LV" sz="2300" spc="-1" strike="noStrike" u="sng">
                <a:solidFill>
                  <a:srgbClr val="000000"/>
                </a:solidFill>
                <a:uFillTx/>
                <a:latin typeface="Arial"/>
              </a:rPr>
              <a:t> (</a:t>
            </a:r>
            <a:r>
              <a:rPr b="0" lang="lv-LV" sz="2300" spc="-1" strike="noStrike" u="sng">
                <a:solidFill>
                  <a:srgbClr val="000000"/>
                </a:solidFill>
                <a:uFillTx/>
                <a:latin typeface="Arial"/>
              </a:rPr>
              <a:t>39.</a:t>
            </a:r>
            <a:r>
              <a:rPr b="0" lang="lv-LV" sz="2300" spc="-1" strike="noStrike" u="sng" baseline="30000">
                <a:solidFill>
                  <a:srgbClr val="000000"/>
                </a:solidFill>
                <a:uFillTx/>
                <a:latin typeface="Arial"/>
              </a:rPr>
              <a:t>2</a:t>
            </a:r>
            <a:r>
              <a:rPr b="0" lang="lv-LV" sz="2300" spc="-1" strike="noStrike" u="sng">
                <a:solidFill>
                  <a:srgbClr val="000000"/>
                </a:solidFill>
                <a:uFillTx/>
                <a:latin typeface="Arial"/>
              </a:rPr>
              <a:t> panta otrā daļa</a:t>
            </a:r>
            <a:r>
              <a:rPr b="1" lang="lv-LV" sz="2300" spc="-1" strike="noStrike" u="sng">
                <a:solidFill>
                  <a:srgbClr val="000000"/>
                </a:solidFill>
                <a:uFillTx/>
                <a:latin typeface="Arial"/>
              </a:rPr>
              <a:t>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8084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09CDB-EC41-41E2-9E95-94B2552B99D5}" type="slidenum">
              <a:rPr b="0" lang="lv-LV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8280360" cy="1042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3399"/>
                </a:solidFill>
                <a:latin typeface="Arial"/>
              </a:rPr>
              <a:t>Izmaiņas izslēgšanas noteikumos no 01.08.2013.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47280" y="1580760"/>
            <a:ext cx="7775640" cy="381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2224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Pasūtītājs, pieņemot lēmumu par kandidāta vai pretendenta izslēgšanu no turpmākās dalības iepirkuma procedūrā iepriekš noslēgtā līguma neizpildes dēļ, ņem vērā, cik </a:t>
            </a:r>
            <a:r>
              <a:rPr b="1" lang="lv-LV" sz="2400" spc="-1" strike="noStrike" u="sng">
                <a:solidFill>
                  <a:srgbClr val="000000"/>
                </a:solidFill>
                <a:uFillTx/>
                <a:latin typeface="Arial"/>
              </a:rPr>
              <a:t>būtisks ir pārkāpums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, kas pieļauts tā iepirkuma līguma vai vispārīgās vienošanās izpildē, no kā pasūtītājs vienpusēji atkāpies, kā arī </a:t>
            </a:r>
            <a:r>
              <a:rPr b="1" lang="lv-LV" sz="2400" spc="-1" strike="noStrike" u="sng">
                <a:solidFill>
                  <a:srgbClr val="000000"/>
                </a:solidFill>
                <a:uFillTx/>
                <a:latin typeface="Arial"/>
              </a:rPr>
              <a:t>slēdzamā iepirkuma līguma vai vispārīgās vienošanās neizpildes risk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 (39.</a:t>
            </a:r>
            <a:r>
              <a:rPr b="0" lang="lv-LV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 panta ceturtā daļ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06423-1EBA-4933-B341-DCF0B253A3CE}" type="slidenum">
              <a:rPr b="0" lang="lv-LV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8280360" cy="1042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3399"/>
                </a:solidFill>
                <a:latin typeface="Arial"/>
              </a:rPr>
              <a:t>Izmaiņas izslēgšanas noteikumos </a:t>
            </a:r>
            <a:br>
              <a:rPr sz="3200"/>
            </a:br>
            <a:r>
              <a:rPr b="1" lang="lv-LV" sz="3200" spc="-1" strike="noStrike">
                <a:solidFill>
                  <a:srgbClr val="003399"/>
                </a:solidFill>
                <a:latin typeface="Arial"/>
              </a:rPr>
              <a:t>no 01.08.2013.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28200" y="1580760"/>
            <a:ext cx="7775640" cy="381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lvl="1" marL="77256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v-LV" sz="2600" spc="-1" strike="noStrike">
                <a:solidFill>
                  <a:srgbClr val="000000"/>
                </a:solidFill>
                <a:latin typeface="Arial"/>
              </a:rPr>
              <a:t>Pasūtītājs ir tiesīgs piemērot PIL 39.</a:t>
            </a:r>
            <a:r>
              <a:rPr b="0" lang="lv-LV" sz="26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lv-LV" sz="2600" spc="-1" strike="noStrike">
                <a:solidFill>
                  <a:srgbClr val="000000"/>
                </a:solidFill>
                <a:latin typeface="Arial"/>
              </a:rPr>
              <a:t>paredzēto kandidātu un pretendentu izslēgšanas nosacījumu, kā arī 39.</a:t>
            </a:r>
            <a:r>
              <a:rPr b="0" lang="lv-LV" sz="2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lv-LV" sz="2600" spc="-1" strike="noStrike">
                <a:solidFill>
                  <a:srgbClr val="000000"/>
                </a:solidFill>
                <a:latin typeface="Arial"/>
              </a:rPr>
              <a:t> panta otrajā daļā minēto papildu saistību izpildes nodrošinājumu un noteikumus iepriekš noslēgtā līguma neizpildes dēļ, </a:t>
            </a:r>
            <a:r>
              <a:rPr b="1" lang="lv-LV" sz="2600" spc="-1" strike="noStrike" u="sng">
                <a:solidFill>
                  <a:srgbClr val="000000"/>
                </a:solidFill>
                <a:uFillTx/>
                <a:latin typeface="Arial"/>
              </a:rPr>
              <a:t>tikai tad, ja tas šādas tiesības ir paredzējis paziņojumā par līgumu vai iepirkuma procedūras dokumento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A188D-2CB1-4D5B-8CBB-2B2D2DA21567}" type="slidenum">
              <a:rPr b="0" lang="lv-LV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8280360" cy="1042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3399"/>
                </a:solidFill>
                <a:latin typeface="Arial"/>
              </a:rPr>
              <a:t>Izmaiņas izslēgšanas noteikumos </a:t>
            </a:r>
            <a:br>
              <a:rPr sz="3200"/>
            </a:br>
            <a:r>
              <a:rPr b="1" lang="lv-LV" sz="3200" spc="-1" strike="noStrike">
                <a:solidFill>
                  <a:srgbClr val="003399"/>
                </a:solidFill>
                <a:latin typeface="Arial"/>
              </a:rPr>
              <a:t>no 01.08.2013.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28200" y="1580760"/>
            <a:ext cx="7775640" cy="381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2224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2224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PIL Pārejas noteikumu 47.punkts: 2.</a:t>
            </a:r>
            <a:r>
              <a:rPr b="0" lang="lv-LV" sz="28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daļā paredzētais izslēgšanas noteikums piemērojams, </a:t>
            </a:r>
            <a:r>
              <a:rPr b="1" lang="lv-LV" sz="2800" spc="-1" strike="noStrike">
                <a:solidFill>
                  <a:srgbClr val="000000"/>
                </a:solidFill>
                <a:latin typeface="Arial"/>
              </a:rPr>
              <a:t>ja pasūtītājs vienpusēji atkāpies no iepirkuma līguma vai vispārīgās vienošanās pēc 31.07.2013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34EB7-7DDB-466C-A667-AD7733B55B1A}" type="slidenum">
              <a:rPr b="0" lang="lv-LV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8280360" cy="1042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3399"/>
                </a:solidFill>
                <a:latin typeface="Arial"/>
              </a:rPr>
              <a:t>Izmaiņas izslēgšanas noteikumos no 01.08.2013.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45840" y="1609560"/>
            <a:ext cx="7775640" cy="381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2600" spc="-1" strike="noStrike">
                <a:solidFill>
                  <a:srgbClr val="000000"/>
                </a:solidFill>
                <a:latin typeface="Arial"/>
              </a:rPr>
              <a:t>PIL 39.</a:t>
            </a:r>
            <a:r>
              <a:rPr b="1" lang="lv-LV" sz="2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lv-LV" sz="2600" spc="-1" strike="noStrike">
                <a:solidFill>
                  <a:srgbClr val="000000"/>
                </a:solidFill>
                <a:latin typeface="Arial"/>
              </a:rPr>
              <a:t> pantā paredzētais izslēgšanas noteikums un papildu saistību nodrošinājums vai papildu noteikumi līgumā netiek piemēroti, ja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600" spc="-1" strike="noStrike">
                <a:solidFill>
                  <a:srgbClr val="000000"/>
                </a:solidFill>
                <a:latin typeface="Arial"/>
              </a:rPr>
              <a:t>no dienas, kad pasūtītājs vienpusēji atkāpies no iepriekš noslēgtā iepirkuma līguma vai vispārīgās vienošanās, līdz pieteikuma vai piedāvājuma iesniegšanas dienai </a:t>
            </a:r>
            <a:r>
              <a:rPr b="1" lang="lv-LV" sz="2600" spc="-1" strike="noStrike">
                <a:solidFill>
                  <a:srgbClr val="000000"/>
                </a:solidFill>
                <a:latin typeface="Arial"/>
              </a:rPr>
              <a:t>ir pagājuši 12 mēneši publiska piegādes vai pakalpojumu līguma gadījumā un trīs gadi publiska būvdarbu līguma gadījumā</a:t>
            </a:r>
            <a:r>
              <a:rPr b="0" lang="lv-LV" sz="2600" spc="-1" strike="noStrike">
                <a:solidFill>
                  <a:srgbClr val="000000"/>
                </a:solidFill>
                <a:latin typeface="Arial"/>
              </a:rPr>
              <a:t>. (39.</a:t>
            </a:r>
            <a:r>
              <a:rPr b="0" lang="lv-LV" sz="2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lv-LV" sz="2600" spc="-1" strike="noStrike">
                <a:solidFill>
                  <a:srgbClr val="000000"/>
                </a:solidFill>
                <a:latin typeface="Arial"/>
              </a:rPr>
              <a:t> panta trešā daļa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3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3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74800" y="281304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003399"/>
                </a:solidFill>
                <a:latin typeface="Arial"/>
              </a:rPr>
              <a:t>IESNIEGUMU IZSKATĪŠANAS KOMISIJAS PRAKSE</a:t>
            </a:r>
            <a:br>
              <a:rPr sz="4000"/>
            </a:br>
            <a:r>
              <a:rPr b="1" lang="lv-LV" sz="4000" spc="-1" strike="noStrike">
                <a:solidFill>
                  <a:srgbClr val="003399"/>
                </a:solidFill>
                <a:latin typeface="Arial"/>
              </a:rPr>
              <a:t>PĀRTIKAS IEPIRKUMOS</a:t>
            </a:r>
            <a:endParaRPr b="1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96B6E-3048-45FE-9BE5-9C7190479FD3}" type="slidenum">
              <a:rPr b="0" lang="lv-LV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828036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3399"/>
                </a:solidFill>
                <a:latin typeface="Arial"/>
              </a:rPr>
              <a:t>Piedāvājumi ar vienādām cenām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39640" y="170028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2400" spc="-1" strike="noStrike">
                <a:solidFill>
                  <a:srgbClr val="000000"/>
                </a:solidFill>
                <a:latin typeface="Arial"/>
              </a:rPr>
              <a:t>Lēmums Nr.4-1.2/13-1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Iepirkuma priekšmeta daļā «baltmaize, rupjmaize» piedāvājumus ar vienādu viszemāko cenu (15410,00 Ls) iesnieguši 2 pretendent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Iepirkuma komisija pieņēmusi lēmumu slēgt līgumu ar to, kurš no abiem pirmais iesniedzis piedāvājum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3280C-80AE-44BE-8055-D0BA5C60E9D0}" type="slidenum">
              <a:rPr b="0" lang="lv-LV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828036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3399"/>
                </a:solidFill>
                <a:latin typeface="Arial"/>
              </a:rPr>
              <a:t>Piedāvājumi ar vienādām cenām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539640" y="170028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2400" spc="-1" strike="noStrike">
                <a:solidFill>
                  <a:srgbClr val="000000"/>
                </a:solidFill>
                <a:latin typeface="Arial"/>
              </a:rPr>
              <a:t>Lēmums Nr.4-1.2/13-1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Arial"/>
              </a:rPr>
              <a:t>Iesniegumu izskatīšanas komisija (IIK)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Arial"/>
              </a:rPr>
              <a:t>Līdzvērtīgu piedāvājumu gadījumā nav tiesību izvēlēties kā kritēriju piedāvājumu iesniegšanas laiku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Arial"/>
              </a:rPr>
              <a:t>Jāņem vērā PIL 46.panta ceturtā daļa (ja iespējams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A4633-5153-4250-B616-2A4D95D2B99A}" type="slidenum">
              <a:rPr b="0" lang="lv-LV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828036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3399"/>
                </a:solidFill>
                <a:latin typeface="Arial"/>
              </a:rPr>
              <a:t>Piedāvājumi ar vienādām cenām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539640" y="170028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2400" spc="-1" strike="noStrike">
                <a:solidFill>
                  <a:srgbClr val="000000"/>
                </a:solidFill>
                <a:latin typeface="Arial"/>
              </a:rPr>
              <a:t>Lēmums Nr.4-1.2/13-1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IIK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Ja iepirkuma dokumentos rīcība nav paredzēta, ņem vērā priekšrocības attiecībā uz piedāvājumu kvalitāti, piedāvātajiem līguma izpildes nosacījumiem, kas norāda uz iespēju saņemt izdevīgāku piedāvājum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A6C89-2BF9-4D64-91C9-95BA80C7E912}" type="slidenum">
              <a:rPr b="0" lang="lv-LV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828036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3399"/>
                </a:solidFill>
                <a:latin typeface="Arial"/>
              </a:rPr>
              <a:t>Papildu informācijas pieprasīšana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539640" y="170028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PIL 45.p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(1) Ja pasūtītājs konstatē, ka </a:t>
            </a:r>
            <a:r>
              <a:rPr b="1" lang="lv-LV" sz="2800" spc="-1" strike="noStrike">
                <a:solidFill>
                  <a:srgbClr val="000000"/>
                </a:solidFill>
                <a:latin typeface="Arial"/>
              </a:rPr>
              <a:t>atbilstoši šā likuma 39.</a:t>
            </a:r>
            <a:r>
              <a:rPr b="1" lang="lv-LV" sz="28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1" lang="lv-LV" sz="2800" spc="-1" strike="noStrike">
                <a:solidFill>
                  <a:srgbClr val="000000"/>
                </a:solidFill>
                <a:latin typeface="Arial"/>
              </a:rPr>
              <a:t>, 40., 41., 42., 43. un 44.panta noteikumiem iesniegtajos dokumentos ietvertā informācija ir neskaidra vai nepilnīga</a:t>
            </a: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, tas </a:t>
            </a:r>
            <a:r>
              <a:rPr b="1" lang="lv-LV" sz="2800" spc="-1" strike="noStrike">
                <a:solidFill>
                  <a:srgbClr val="000000"/>
                </a:solidFill>
                <a:latin typeface="Arial"/>
              </a:rPr>
              <a:t>pieprasa,</a:t>
            </a: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 lai </a:t>
            </a:r>
            <a:r>
              <a:rPr b="1" lang="lv-LV" sz="2800" spc="-1" strike="noStrike">
                <a:solidFill>
                  <a:srgbClr val="000000"/>
                </a:solidFill>
                <a:latin typeface="Arial"/>
              </a:rPr>
              <a:t>piegādātājs vai kompetenta institūcija izskaidro vai papildina šajos dokumentos ietverto informāciju.</a:t>
            </a: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B4BFD-7A86-4DE0-9782-06C640F88AA1}" type="slidenum">
              <a:rPr b="0" lang="lv-LV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341CA-AB4A-4619-9295-9FC90D9E0E1D}" type="slidenum">
              <a:rPr b="0" lang="lv-LV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828036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3399"/>
                </a:solidFill>
                <a:latin typeface="Arial"/>
              </a:rPr>
              <a:t>Līgumcenu sliekšņi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9640" y="170028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lv-LV" sz="3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lv-LV" sz="3000" spc="-1" strike="noStrike">
                <a:solidFill>
                  <a:srgbClr val="000000"/>
                </a:solidFill>
                <a:latin typeface="Arial"/>
              </a:rPr>
              <a:t>Mazo” iepirkumu (Publisko iepirkumu likuma 8.</a:t>
            </a:r>
            <a:r>
              <a:rPr b="0" lang="lv-LV" sz="3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lv-LV" sz="3000" spc="-1" strike="noStrike">
                <a:solidFill>
                  <a:srgbClr val="000000"/>
                </a:solidFill>
                <a:latin typeface="Arial"/>
              </a:rPr>
              <a:t> pants) līgumcenu sliekšņi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000" spc="-1" strike="noStrike">
                <a:solidFill>
                  <a:srgbClr val="000000"/>
                </a:solidFill>
                <a:latin typeface="Arial"/>
              </a:rPr>
              <a:t>piegādēm un pakalpojumiem</a:t>
            </a:r>
            <a:r>
              <a:rPr b="0" lang="lv-LV" sz="3000" spc="-1" strike="noStrike">
                <a:solidFill>
                  <a:srgbClr val="000000"/>
                </a:solidFill>
                <a:latin typeface="Arial"/>
              </a:rPr>
              <a:t> –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3000" spc="-1" strike="noStrike" u="sng">
                <a:solidFill>
                  <a:srgbClr val="000000"/>
                </a:solidFill>
                <a:uFillTx/>
                <a:latin typeface="Arial"/>
              </a:rPr>
              <a:t>4000 euro </a:t>
            </a:r>
            <a:r>
              <a:rPr b="0" lang="lv-LV" sz="3000" spc="-1" strike="noStrike">
                <a:solidFill>
                  <a:srgbClr val="000000"/>
                </a:solidFill>
                <a:latin typeface="Arial"/>
              </a:rPr>
              <a:t>līdz </a:t>
            </a:r>
            <a:r>
              <a:rPr b="1" i="1" lang="lv-LV" sz="3000" spc="-1" strike="noStrike" u="sng">
                <a:solidFill>
                  <a:srgbClr val="000000"/>
                </a:solidFill>
                <a:uFillTx/>
                <a:latin typeface="Arial"/>
              </a:rPr>
              <a:t>42 000 euro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3000" spc="-1" strike="noStrike" u="sng">
                <a:solidFill>
                  <a:srgbClr val="000000"/>
                </a:solidFill>
                <a:uFillTx/>
                <a:latin typeface="Arial"/>
              </a:rPr>
              <a:t>No 42 000 euro – </a:t>
            </a:r>
            <a:r>
              <a:rPr b="0" lang="lv-LV" sz="3000" spc="-1" strike="noStrike">
                <a:solidFill>
                  <a:srgbClr val="000000"/>
                </a:solidFill>
                <a:latin typeface="Arial"/>
              </a:rPr>
              <a:t>iepirkuma procedūra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828036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3399"/>
                </a:solidFill>
                <a:latin typeface="Arial"/>
              </a:rPr>
              <a:t>Papildu informācijas pieprasīšana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9640" y="170028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PIL 45.pan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(3) Piedāvājumu vērtēšanas gaitā pasūtītājs ir </a:t>
            </a:r>
            <a:r>
              <a:rPr b="1" lang="lv-LV" sz="2800" spc="-1" strike="noStrike">
                <a:solidFill>
                  <a:srgbClr val="000000"/>
                </a:solidFill>
                <a:latin typeface="Arial"/>
              </a:rPr>
              <a:t>tiesīgs pieprasīt, lai tiek izskaidrota tehniskajā un finanšu piedāvājumā iekļautā informācija</a:t>
            </a: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, kā arī </a:t>
            </a:r>
            <a:r>
              <a:rPr b="1" lang="lv-LV" sz="2800" spc="-1" strike="noStrike">
                <a:solidFill>
                  <a:srgbClr val="000000"/>
                </a:solidFill>
                <a:latin typeface="Arial"/>
              </a:rPr>
              <a:t>iesniegti piedāvāto preču paraugi</a:t>
            </a: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, ja tie nepieciešami preču atbilstības novērtēšanai un pretendents ar tam pieejamiem dokumentiem nevar pasūtītājam pierādīt preču atbilstīb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1C908-FF48-4AF2-BB89-BEE346E1F33E}" type="slidenum">
              <a:rPr b="0" lang="lv-LV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828036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3399"/>
                </a:solidFill>
                <a:latin typeface="Arial"/>
              </a:rPr>
              <a:t>Papildu informācijas pieprasīšanu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39640" y="170028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2400" spc="-1" strike="noStrike">
                <a:solidFill>
                  <a:srgbClr val="000000"/>
                </a:solidFill>
                <a:latin typeface="Arial"/>
              </a:rPr>
              <a:t>Lēmums Nr.4-1.2/13-17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Tehniskā specifikācija: «Makaroni a/l </a:t>
            </a:r>
            <a:r>
              <a:rPr b="0" i="1" lang="lv-LV" sz="2800" spc="-1" strike="noStrike">
                <a:solidFill>
                  <a:srgbClr val="000000"/>
                </a:solidFill>
                <a:latin typeface="Arial"/>
              </a:rPr>
              <a:t>Italpasta </a:t>
            </a: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vai ekvivalenti», preci nepieciešams saņemt </a:t>
            </a:r>
            <a:r>
              <a:rPr b="0" i="1" lang="lv-LV" sz="2800" spc="-1" strike="noStrike">
                <a:solidFill>
                  <a:srgbClr val="000000"/>
                </a:solidFill>
                <a:latin typeface="Arial"/>
              </a:rPr>
              <a:t>nebojātā  rūpnīcas iepakojum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Iesniedzējs piedāvā AS «Dobeles Dzirnavnieks» makaronus </a:t>
            </a:r>
            <a:r>
              <a:rPr b="0" i="1" lang="lv-LV" sz="2800" spc="-1" strike="noStrike">
                <a:solidFill>
                  <a:srgbClr val="000000"/>
                </a:solidFill>
                <a:latin typeface="Arial"/>
              </a:rPr>
              <a:t>celofāna iepakojum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Pasūtītājs iesniedzēju noraidījis, jo noskaidrojis, ka ražotājs produktus piedāvā kartona kārbā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AC5DE-9091-4A45-94D1-4E170CC578BC}" type="slidenum">
              <a:rPr b="0" lang="lv-LV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828036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3399"/>
                </a:solidFill>
                <a:latin typeface="Arial"/>
              </a:rPr>
              <a:t>Papildu informācijas pieprasīšanu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539640" y="170028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2400" spc="-1" strike="noStrike">
                <a:solidFill>
                  <a:srgbClr val="000000"/>
                </a:solidFill>
                <a:latin typeface="Arial"/>
              </a:rPr>
              <a:t>Lēmums Nr.4-1.2/13-17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Tehniskā specifikācija: «Majonēze Brokastu», stikla burkās fasējumā  no 0,45 līdz 0,48 k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Iesniedzējs piedāvā ražotāja «Spilva» majonēzi 500 g fasējum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Pasūtītājs piedāvājumu noraidījis, jo «Spilva» Provansas majonēzi fasē 480 ml burkās un 10 l spaiņ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16B38-3337-4BB0-966B-0FA2741E6515}" type="slidenum">
              <a:rPr b="0" lang="lv-LV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26880" y="154080"/>
            <a:ext cx="82807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3399"/>
                </a:solidFill>
                <a:latin typeface="Arial"/>
              </a:rPr>
              <a:t>Papildu informācijas pieprasīšanu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39640" y="170028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2400" spc="-1" strike="noStrike">
                <a:solidFill>
                  <a:srgbClr val="000000"/>
                </a:solidFill>
                <a:latin typeface="Arial"/>
              </a:rPr>
              <a:t>Lēmums Nr.4-1.2/13-17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IIK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Pasūtītājam bija jālūdz iesniedzējam skaidrojums un pierādījumi par piedāvājuma atbilstību, piemēram ražotāja apliecinājums vai preču paraug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AE0CF-83A9-4428-9418-A43C2EA58AF5}" type="slidenum">
              <a:rPr b="0" lang="lv-LV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98160" y="130320"/>
            <a:ext cx="828036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3399"/>
                </a:solidFill>
                <a:latin typeface="Arial"/>
              </a:rPr>
              <a:t>Papildu informācijas pieprasīšanu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539640" y="170028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2400" spc="-1" strike="noStrike">
                <a:solidFill>
                  <a:srgbClr val="000000"/>
                </a:solidFill>
                <a:latin typeface="Arial"/>
              </a:rPr>
              <a:t>Lēmums Nr.4-1.2/13-335/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Pasūtītājs noraidījis pretendentu, jo tas piedāvājumā nav norādījis minerālūdens ražotāju, nav iekļāvis norādi par augu eļļas un tauku atbilstību MK noteikumiem Nr.172 un nav norādījis šo preču un ražotāju nosaukumu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C75BD-6F5A-4165-B44F-914D4F4974C8}" type="slidenum">
              <a:rPr b="0" lang="lv-LV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828036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3399"/>
                </a:solidFill>
                <a:latin typeface="Arial"/>
              </a:rPr>
              <a:t>Papildu informācijas pieprasīšanu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539640" y="170028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2400" spc="-1" strike="noStrike">
                <a:solidFill>
                  <a:srgbClr val="000000"/>
                </a:solidFill>
                <a:latin typeface="Arial"/>
              </a:rPr>
              <a:t>Lēmums Nr.4-1.2/13-335/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600" spc="-1" strike="noStrike">
                <a:solidFill>
                  <a:srgbClr val="000000"/>
                </a:solidFill>
                <a:latin typeface="Arial"/>
              </a:rPr>
              <a:t>IIK : Nav konstatējams, ka iepirkuma dokumentos būtu paredzēti  konkrēti nosacījumi pretendentiem attiecībā uz tehniskajā piedāvājumā iekļaujamās informācijas saturu, piemēram, kāda informācija jānorāda ailē «apraksts»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600" spc="-1" strike="noStrike">
                <a:solidFill>
                  <a:srgbClr val="000000"/>
                </a:solidFill>
                <a:latin typeface="Arial"/>
              </a:rPr>
              <a:t>Pasūtītājs varēja piemērot PIL 45.panta trešo daļu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600" spc="-1" strike="noStrike">
                <a:solidFill>
                  <a:srgbClr val="000000"/>
                </a:solidFill>
                <a:latin typeface="Arial"/>
              </a:rPr>
              <a:t>Informācijas par pretendenta tehniskajā piedāvājumā iekļauto preču un ražotāju nosaukumu pieprasīšana un saņemšana nav uzskatāma par piedāvājuma papildināšanu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0FAA6-1EE5-4E2D-A3FC-CCAEC785874A}" type="slidenum">
              <a:rPr b="0" lang="lv-LV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828036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3399"/>
                </a:solidFill>
                <a:latin typeface="Arial"/>
              </a:rPr>
              <a:t>Par papildu informācijas pieprasīšanu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539640" y="170028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2400" spc="-1" strike="noStrike">
                <a:solidFill>
                  <a:srgbClr val="000000"/>
                </a:solidFill>
                <a:latin typeface="Arial"/>
              </a:rPr>
              <a:t>Lēmums Nr.4-1.2/13-35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Iesniedzējs noraidīts, jo pozīcijā «margarīns ar tauku saturu 40 %, sviestmaižu» piedāvājis margarīnu, augu tauku pastu, tauku saturs ne mazāk kā 40 %, </a:t>
            </a:r>
            <a:r>
              <a:rPr b="0" i="1" lang="lv-LV" sz="2800" spc="-1" strike="noStrike">
                <a:solidFill>
                  <a:srgbClr val="000000"/>
                </a:solidFill>
                <a:latin typeface="Arial"/>
              </a:rPr>
              <a:t>Ade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0489A-94A1-4392-87D2-6CA1B446C8FC}" type="slidenum">
              <a:rPr b="0" lang="lv-LV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828036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3399"/>
                </a:solidFill>
                <a:latin typeface="Arial"/>
              </a:rPr>
              <a:t>Par papildu informācijas pieprasīšanu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563400" y="154764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2400" spc="-1" strike="noStrike">
                <a:solidFill>
                  <a:srgbClr val="000000"/>
                </a:solidFill>
                <a:latin typeface="Arial"/>
              </a:rPr>
              <a:t>Lēmums Nr.4-1.2/13-35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Pasūtītājs  pārbaudījis infromāciju interneta vietnē www.btn.lv, konstatējot, ka piedāvātais margarīns tiek piedāvāts tikai ar tauku saturu 25 % (par margarīnu ir uzskatāms tikai produkts ar tauku saturu 39 %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IIK: Ja pasūtītājam bija šaubas, tam bija jāvēršas pie iesniedzēja vai preču ražotāj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EBFC0-6E60-4DAD-9080-E3EAB313D935}" type="slidenum">
              <a:rPr b="0" lang="lv-LV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828036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3399"/>
                </a:solidFill>
                <a:latin typeface="Arial"/>
              </a:rPr>
              <a:t>Nepareizas procedūras izvēle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574560" y="170028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2400" spc="-1" strike="noStrike">
                <a:solidFill>
                  <a:srgbClr val="000000"/>
                </a:solidFill>
                <a:latin typeface="Arial"/>
              </a:rPr>
              <a:t>Lēmums Nr.4-1.2/13-19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Pasūtītājs rīkojis iepirkumu Publisko iepirkumu likuma 8.</a:t>
            </a:r>
            <a:r>
              <a:rPr b="0" lang="lv-LV" sz="28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 panta kārtīb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Visās iepirkuma daļās uzvarējušo pretendentu piedāvāto līgumcenu summa ir 27 794.64 bez PV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IIK: Līgumcenu summa pārsniedz PIL 8.</a:t>
            </a:r>
            <a:r>
              <a:rPr b="0" lang="lv-LV" sz="2800" spc="-1" strike="noStrike" baseline="30000">
                <a:solidFill>
                  <a:srgbClr val="000000"/>
                </a:solidFill>
                <a:latin typeface="Arial"/>
              </a:rPr>
              <a:t>1 </a:t>
            </a: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panta piemērošanas slieksni (līdz 20 000 latu). Iepirkums jāpārtrau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18A5F-D463-4E83-B9F4-7958462A4F5C}" type="slidenum">
              <a:rPr b="0" lang="lv-LV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828036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3399"/>
                </a:solidFill>
                <a:latin typeface="Arial"/>
              </a:rPr>
              <a:t>Dalīšana pārtikas grupās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539640" y="170028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2400" spc="-1" strike="noStrike">
                <a:solidFill>
                  <a:srgbClr val="000000"/>
                </a:solidFill>
                <a:latin typeface="Arial"/>
              </a:rPr>
              <a:t>Lēmums Nr.4-1.2/13-34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Iepirkums dalīts daļās pa pārtikas grupā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364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Gaļa un tās izstrādājumi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364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Augļi un dārzeņi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364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Piena produkti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364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Maizes izstrādājumi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364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Dažādi pārtikas produkt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36400">
              <a:spcBef>
                <a:spcPts val="700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761AC-BE27-4B28-ABCE-975832288F17}" type="slidenum">
              <a:rPr b="0" lang="lv-LV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2FD26-7183-4E30-98DA-F6D5086F94EF}" type="slidenum">
              <a:rPr b="0" lang="lv-LV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080" y="177480"/>
            <a:ext cx="8280360" cy="1042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3399"/>
                </a:solidFill>
                <a:latin typeface="Arial"/>
              </a:rPr>
              <a:t>Izslēgšanas noteikumu pārbaude </a:t>
            </a:r>
            <a:br>
              <a:rPr sz="3200"/>
            </a:br>
            <a:r>
              <a:rPr b="1" lang="lv-LV" sz="3200" spc="-1" strike="noStrike">
                <a:solidFill>
                  <a:srgbClr val="003399"/>
                </a:solidFill>
                <a:latin typeface="Arial"/>
              </a:rPr>
              <a:t>no 01.01.2014. 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1200" y="1617840"/>
            <a:ext cx="8085240" cy="42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lvl="1" marL="789120"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Pārbaude par to, vai kandidāts vai pretendents nav izslēdzams PIL 39.</a:t>
            </a:r>
            <a:r>
              <a:rPr b="0" lang="lv-LV" sz="24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 (1) 1., 2. 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un 3.punktā paredzēto noziedzīgo nodarījumu un pārkāpumu dēļ, par kuriem tas sodīts Latvijā, un 39.</a:t>
            </a:r>
            <a:r>
              <a:rPr b="0" lang="lv-LV" sz="24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 (1) 4. un 5.punktā noteikto faktu dēļ, veicama, </a:t>
            </a:r>
            <a:r>
              <a:rPr b="1" lang="lv-LV" sz="2400" spc="-1" strike="noStrike" u="sng">
                <a:solidFill>
                  <a:srgbClr val="000000"/>
                </a:solidFill>
                <a:uFillTx/>
                <a:latin typeface="Arial"/>
              </a:rPr>
              <a:t>izmantojot Ministru kabineta noteikto informācijas sistēm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9120"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9120"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9120"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Arial"/>
              </a:rPr>
              <a:t>Informācija iegūstama VRAA uzturētajā Elektronisko iepirkumu sistēmā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9120"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9120"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Arial"/>
              </a:rPr>
              <a:t>Izslēgšanas noteikumu pārbaudi veic minētajā sistēmā arī «mazajos iepirkumos» (PIL 8.</a:t>
            </a:r>
            <a:r>
              <a:rPr b="1" i="1" lang="lv-LV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lv-LV" sz="2400" spc="-1" strike="noStrike">
                <a:solidFill>
                  <a:srgbClr val="000000"/>
                </a:solidFill>
                <a:latin typeface="Arial"/>
              </a:rPr>
              <a:t> pant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9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9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828036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3399"/>
                </a:solidFill>
                <a:latin typeface="Arial"/>
              </a:rPr>
              <a:t>Dalīšana pārtikas grupās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39640" y="170028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2400" spc="-1" strike="noStrike">
                <a:solidFill>
                  <a:srgbClr val="000000"/>
                </a:solidFill>
                <a:latin typeface="Arial"/>
              </a:rPr>
              <a:t>Lēmums Nr.4-1.2/13-34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Iesniedzējs apstrīd to, ka grupā «Dažādi pārtikas produkti» iekļautas pozīcijas: sviests, kausēts siers, siers «Krievijas», biezpiena sieriņi, krabīši, saldētas ziv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CC198-2DD5-4582-BEA2-81A13C828983}" type="slidenum">
              <a:rPr b="0" lang="lv-LV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828036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3399"/>
                </a:solidFill>
                <a:latin typeface="Arial"/>
              </a:rPr>
              <a:t>Dalīšana pārtikas grupās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39640" y="170028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2400" spc="-1" strike="noStrike">
                <a:solidFill>
                  <a:srgbClr val="000000"/>
                </a:solidFill>
                <a:latin typeface="Arial"/>
              </a:rPr>
              <a:t>Lēmums Nr.4-1.2/13-34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IIK: Kausēts siers, biezpiena sieriņi, sviests nav daudzu piena produktu ražotāju klāstā, nav pamatoti pievienot piena produktu grupai, savukārt siers jāiekļauj piena produktu grup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Saldētas zivis, krabīšus nav pamata izdalīt atsevišķā grupā nelielo apjomu dē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8F2B7-C537-4FBA-B273-236DCF325CC1}" type="slidenum">
              <a:rPr b="0" lang="lv-LV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828036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3399"/>
                </a:solidFill>
                <a:latin typeface="Arial"/>
              </a:rPr>
              <a:t>Piedāvājumu vērtēšanas kritēriji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539640" y="170028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2800" spc="-1" strike="noStrike">
                <a:solidFill>
                  <a:srgbClr val="000000"/>
                </a:solidFill>
                <a:latin typeface="Arial"/>
              </a:rPr>
              <a:t>Lēmums Nr.4-1.2/13-28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600" spc="-1" strike="noStrike">
                <a:solidFill>
                  <a:srgbClr val="000000"/>
                </a:solidFill>
                <a:latin typeface="Arial"/>
              </a:rPr>
              <a:t>Ēdināšanas pakalpojumu iepirkum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600" spc="-1" strike="noStrike">
                <a:solidFill>
                  <a:srgbClr val="000000"/>
                </a:solidFill>
                <a:latin typeface="Arial"/>
              </a:rPr>
              <a:t>Iesniedzējs apstrīd kritēriju «Pretendenta esošā personāla kvalifikācijas atbilstība MK noteikumiem Nr.409». Maksimālais punktu skaits pretendentam, kura darbinieku kvalifikācija/izglītība ir visaugstākā, izmantojot salīdzināšanas metodi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600" spc="-1" strike="noStrike">
                <a:solidFill>
                  <a:srgbClr val="000000"/>
                </a:solidFill>
                <a:latin typeface="Arial"/>
              </a:rPr>
              <a:t>IIK: Pasūtītājam nav izpratnes, kāda personāla kvalifikāciju vērtēs (grāmatvedes, tehnisko darbinieku, pakalpojuma sniegšanā iesaistīto?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7BCE0-9DE4-4B5D-A05B-68384C8EA47D}" type="slidenum">
              <a:rPr b="0" lang="lv-LV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828036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3399"/>
                </a:solidFill>
                <a:latin typeface="Arial"/>
              </a:rPr>
              <a:t>Piedāvājumu vērtēšanas kritēriji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539640" y="170028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2800" spc="-1" strike="noStrike">
                <a:solidFill>
                  <a:srgbClr val="000000"/>
                </a:solidFill>
                <a:latin typeface="Arial"/>
              </a:rPr>
              <a:t>Lēmums Nr.4-1.2/13-28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600" spc="-1" strike="noStrike">
                <a:solidFill>
                  <a:srgbClr val="000000"/>
                </a:solidFill>
                <a:latin typeface="Arial"/>
              </a:rPr>
              <a:t>Ēdināšanas pakalpojumu iepirkum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600" spc="-1" strike="noStrike">
                <a:solidFill>
                  <a:srgbClr val="000000"/>
                </a:solidFill>
                <a:latin typeface="Arial"/>
              </a:rPr>
              <a:t>Iesniedzējs apstrīd kritēriju – ēdiena gatavošanai paredzēto produktu vai produktu grupu piegāde videi draudzīgā veidā (ne vairāk kā 50 km attālumā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600" spc="-1" strike="noStrike">
                <a:solidFill>
                  <a:srgbClr val="000000"/>
                </a:solidFill>
                <a:latin typeface="Arial"/>
              </a:rPr>
              <a:t>IIK: Kritērijs pamatots. Mērķis – samazināt vides piesārņojumu. Tomēr jāparedz detalizētāks vērtēšanas apraksts (kā pārliecināsies, ka produktu piegāde no ražošanas vai izcelsmes vietas, ne tikai no pretendenta, notikusi attāluma robežās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0477E-5B66-44B9-9739-F9DDAB55EEA9}" type="slidenum">
              <a:rPr b="0" lang="lv-LV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98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003399"/>
                </a:solidFill>
                <a:latin typeface="Arial"/>
                <a:ea typeface="Arial"/>
              </a:rPr>
              <a:t>Nepamatoti lēts piedāvājums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9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2800" spc="-1" strike="noStrike">
                <a:solidFill>
                  <a:srgbClr val="000000"/>
                </a:solidFill>
                <a:latin typeface="Arial"/>
                <a:ea typeface="Arial"/>
              </a:rPr>
              <a:t>IIK 11.06.2012. lēmums Nr.4-1.2/12-2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9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  <a:ea typeface="Arial"/>
              </a:rPr>
              <a:t>Iepirkuma priekšmets – pārtikas produktu piegā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9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lv-LV" sz="2800" spc="-1" strike="noStrike">
                <a:solidFill>
                  <a:srgbClr val="000000"/>
                </a:solidFill>
                <a:latin typeface="Arial"/>
                <a:ea typeface="Arial"/>
              </a:rPr>
              <a:t>Iesniedzējs apstrīd uzvarētāja cenas pamatotību, jo uzvarētājs iepērk produktus no tiem pašiem vairumtirgotājiem, turklāt uzvarētājam ir tālāks piegādes ceļš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9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CA8D2-EC2F-423B-A8C7-C12D629F4611}" type="slidenum">
              <a:rPr b="0" lang="lv-LV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828036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003399"/>
                </a:solidFill>
                <a:latin typeface="Arial"/>
                <a:ea typeface="Arial"/>
              </a:rPr>
              <a:t>Nepamatoti lēts piedāvājums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39640" y="170028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2600" spc="-1" strike="noStrike">
                <a:solidFill>
                  <a:srgbClr val="000000"/>
                </a:solidFill>
                <a:latin typeface="Arial"/>
                <a:ea typeface="Arial"/>
              </a:rPr>
              <a:t>IIK 11.06.2012. lēmums Nr.4-1.2/12-21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504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5040" indent="0" algn="just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500" spc="-1" strike="noStrike">
                <a:solidFill>
                  <a:srgbClr val="000000"/>
                </a:solidFill>
                <a:latin typeface="Arial"/>
                <a:ea typeface="Arial"/>
              </a:rPr>
              <a:t>Uzvarētāja piedāvātā cena vairākās pozīcijās ir ļoti zema salīdzinājumā ar iesniedzēja piedāvātajām, turklāt iesniedzēja piedāvājums ir ar otro zemāko cenu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65040" indent="0" algn="just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5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lv-LV" sz="3500" spc="-1" strike="noStrike">
                <a:solidFill>
                  <a:srgbClr val="000000"/>
                </a:solidFill>
                <a:latin typeface="Arial"/>
                <a:ea typeface="Arial"/>
              </a:rPr>
              <a:t>Piemēram, 1 kg kausēts siera cena iesniedzējam  3,03 Ls, uzvarētājam – 0,62 Ls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6504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504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504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7433A-D290-499C-B4A4-729B2D6CDF50}" type="slidenum">
              <a:rPr b="0" lang="lv-LV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828036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003399"/>
                </a:solidFill>
                <a:latin typeface="Arial"/>
                <a:ea typeface="Arial"/>
              </a:rPr>
              <a:t>Nepamatoti lēts piedāvājums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39640" y="170028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2400" spc="-1" strike="noStrike">
                <a:solidFill>
                  <a:srgbClr val="000000"/>
                </a:solidFill>
                <a:latin typeface="Arial"/>
                <a:ea typeface="Arial"/>
              </a:rPr>
              <a:t>IIK 11.06.2012. lēmums Nr.4-1.2/12-2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0" algn="just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5040" indent="0" algn="just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  <a:ea typeface="Arial"/>
              </a:rPr>
              <a:t>IIK: Pasūtītājam ir jābūt </a:t>
            </a:r>
            <a:r>
              <a:rPr b="0" lang="lv-LV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ārliecinātam, ka piedāvātā cena atbilst tirgus situācijai un nav nepamatoti lēta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  <a:ea typeface="Arial"/>
              </a:rPr>
              <a:t>. Ja </a:t>
            </a:r>
            <a:r>
              <a:rPr b="0" lang="lv-LV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cena atšķiras vairākas reizes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  <a:ea typeface="Arial"/>
              </a:rPr>
              <a:t>, jāpārliecinās, ka konkrēto produktu par  šādu cenu ir iespējams piegādāt, pieprasot pierādījumus, piemēram, pretendentu noslēgtos līgumus ar attiecīgiem preču piegādātājiem vai ražotājiem, to apliecinājumus par piedāvājumā norādīto cenu iespējamīb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0" algn="just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0" algn="just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  <a:ea typeface="Arial"/>
              </a:rPr>
              <a:t>Pasūtītājs nav veicis piedāvāto cenu analīzi un nav pārliecinājies par uzvarētāja piedāvājuma atbilstību, lai gan konkrētajā gadījumā </a:t>
            </a:r>
            <a:r>
              <a:rPr b="0" lang="lv-LV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vajadzēja rasties šaubām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C5F3D-DD8A-4657-8BCB-81C1F3C81DC8}" type="slidenum">
              <a:rPr b="0" lang="lv-LV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4360" y="1557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3399"/>
                </a:solidFill>
                <a:latin typeface="Arial"/>
              </a:rPr>
              <a:t>Paldies par uzmanību!</a:t>
            </a: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082AD-38AB-4235-96A8-5E63A6DAF9B7}" type="slidenum">
              <a:rPr b="0" lang="lv-LV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8280360" cy="1042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3399"/>
                </a:solidFill>
                <a:latin typeface="Arial"/>
              </a:rPr>
              <a:t>Izslēgšanas noteikumu pārbaude </a:t>
            </a:r>
            <a:br>
              <a:rPr sz="3200"/>
            </a:br>
            <a:r>
              <a:rPr b="1" lang="lv-LV" sz="3200" spc="-1" strike="noStrike">
                <a:solidFill>
                  <a:srgbClr val="003399"/>
                </a:solidFill>
                <a:latin typeface="Arial"/>
              </a:rPr>
              <a:t>no 01.01.2014. 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0800" y="1847520"/>
            <a:ext cx="7775640" cy="381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Arial"/>
              </a:rPr>
              <a:t>MK 17.12.2013. noteikumi Nr.1516 „Publisko iepirkumu elektronisko izziņu noteikumi” nosa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1) informācijas sistēmu, kurā veicama pārbaude, šīs sistēmas uzturēšanas un izmantošanas kārtību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2) pārbaudāmās informācijas apstrādes mērķi un apjomu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3) kārtību, kādā informācijas sistēma saņem un apstrādā informāciju no iestāžu (VID, UR) uzturētajām informācijas sistēmā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828036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3399"/>
                </a:solidFill>
                <a:latin typeface="Arial"/>
              </a:rPr>
              <a:t>Izslēgšanas noteikumu pārbaude </a:t>
            </a:r>
            <a:br>
              <a:rPr sz="3200"/>
            </a:br>
            <a:r>
              <a:rPr b="1" lang="lv-LV" sz="3200" spc="-1" strike="noStrike">
                <a:solidFill>
                  <a:srgbClr val="003399"/>
                </a:solidFill>
                <a:latin typeface="Arial"/>
              </a:rPr>
              <a:t>no 01.01.2014. 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39640" y="170028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lvl="1" marL="797400" indent="-277200"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400" indent="-277200"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lv-LV" sz="2400" spc="-1" strike="noStrike" u="sng">
                <a:solidFill>
                  <a:srgbClr val="000000"/>
                </a:solidFill>
                <a:uFillTx/>
                <a:latin typeface="Arial"/>
              </a:rPr>
              <a:t>Ministru kabineta noteiktajā kārtībā iegūst informācij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400" indent="-277200"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400" indent="-277200"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1) par 39.</a:t>
            </a:r>
            <a:r>
              <a:rPr b="0" lang="lv-LV" sz="2400" spc="-1" strike="noStrike" baseline="30000">
                <a:solidFill>
                  <a:srgbClr val="000000"/>
                </a:solidFill>
                <a:latin typeface="Arial"/>
              </a:rPr>
              <a:t>1 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panta pirmās daļas 1., 2. un 3.punktā minētajiem pārkāpumiem un noziedzīgajiem nodarījumiem — no Iekšlietu ministrijas Informācijas centra (Sodu reģistra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400" indent="-277200"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400" indent="-27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2) par šā panta pirmās daļas 4.punktā minētajiem faktiem — no Uzņēmumu reģistr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400" indent="-27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400" indent="-27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3) par šā panta pirmās daļas 5.punktā minēto faktu — no Valsts ieņēmumu dienesta un Latvijas pašvaldībā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7A2FD-72EB-49A0-B2BB-93600B17AF22}" type="slidenum">
              <a:rPr b="0" lang="lv-LV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9C8F3-51A7-4C48-871A-DE6C02F4D1A3}" type="slidenum">
              <a:rPr b="0" lang="lv-LV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8280360" cy="1042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3399"/>
                </a:solidFill>
                <a:latin typeface="Arial"/>
              </a:rPr>
              <a:t>Izslēgšanas noteikumu pārbaude </a:t>
            </a:r>
            <a:br>
              <a:rPr sz="3200"/>
            </a:br>
            <a:r>
              <a:rPr b="1" lang="lv-LV" sz="3200" spc="-1" strike="noStrike">
                <a:solidFill>
                  <a:srgbClr val="003399"/>
                </a:solidFill>
                <a:latin typeface="Arial"/>
              </a:rPr>
              <a:t>no 01.01.2014. 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0800" y="1847520"/>
            <a:ext cx="7775640" cy="381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Arial"/>
              </a:rPr>
              <a:t>MK 17.12.2013. noteikumu Nr.1516 „Publisko iepirkumu elektronisko izziņu noteikumi” 14.punk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2400" spc="-1" strike="noStrike">
                <a:solidFill>
                  <a:srgbClr val="000000"/>
                </a:solidFill>
                <a:latin typeface="Arial"/>
              </a:rPr>
              <a:t>Ja šo noteikumu 12.punktā minētajā termiņā e-izziņa reģistra nepieejamības dēļ nav saņemta, e-izziņu pieprasa atkārtoti no e-izziņu sistēmas vai nepieciešamo informāciju pieprasa iesniegt attiecīgajam reģistra pārzinim</a:t>
            </a:r>
            <a:r>
              <a:rPr b="0" i="1" lang="lv-LV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51AC9-FDFD-4001-BCDB-597D1400B7DA}" type="slidenum">
              <a:rPr b="0" lang="lv-LV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8280360" cy="1042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3399"/>
                </a:solidFill>
                <a:latin typeface="Arial"/>
              </a:rPr>
              <a:t>Izslēgšanas noteikumu pārbaude </a:t>
            </a:r>
            <a:br>
              <a:rPr sz="3200"/>
            </a:br>
            <a:r>
              <a:rPr b="1" lang="lv-LV" sz="3200" spc="-1" strike="noStrike">
                <a:solidFill>
                  <a:srgbClr val="003399"/>
                </a:solidFill>
                <a:latin typeface="Arial"/>
              </a:rPr>
              <a:t>no 01.01.2014. 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37920" y="1655640"/>
            <a:ext cx="7775640" cy="381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lvl="1" marL="75636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lv-LV" sz="2400" spc="-1" strike="noStrike">
                <a:solidFill>
                  <a:srgbClr val="000000"/>
                </a:solidFill>
                <a:latin typeface="Arial"/>
              </a:rPr>
              <a:t>PIL 39.</a:t>
            </a:r>
            <a:r>
              <a:rPr b="0" i="1" lang="lv-LV" sz="24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lv-LV" sz="2400" spc="-1" strike="noStrike">
                <a:solidFill>
                  <a:srgbClr val="000000"/>
                </a:solidFill>
                <a:latin typeface="Arial"/>
              </a:rPr>
              <a:t> panta (10) Lai pārbaudītu, vai </a:t>
            </a:r>
            <a:r>
              <a:rPr b="1" i="1" lang="lv-LV" sz="2400" spc="-1" strike="noStrike" u="sng">
                <a:solidFill>
                  <a:srgbClr val="000000"/>
                </a:solidFill>
                <a:uFillTx/>
                <a:latin typeface="Arial"/>
              </a:rPr>
              <a:t>ārvalstī reģistrēts vai pastāvīgi dzīvojošs kandidāts vai pretendents</a:t>
            </a:r>
            <a:r>
              <a:rPr b="0" i="1" lang="lv-LV" sz="2400" spc="-1" strike="noStrike">
                <a:solidFill>
                  <a:srgbClr val="000000"/>
                </a:solidFill>
                <a:latin typeface="Arial"/>
              </a:rPr>
              <a:t> nav izslēdzams no dalības iepirkuma procedūrā saskaņā ar šā panta pirmo daļu, pasūtītājs, izņemot 39.</a:t>
            </a:r>
            <a:r>
              <a:rPr b="0" i="1" lang="lv-LV" sz="24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lv-LV" sz="2400" spc="-1" strike="noStrike">
                <a:solidFill>
                  <a:srgbClr val="000000"/>
                </a:solidFill>
                <a:latin typeface="Arial"/>
              </a:rPr>
              <a:t> panta vienpadsmitajā daļā minēto gadījumu, pieprasa, lai kandidāts vai pretendents iesniedz </a:t>
            </a:r>
            <a:r>
              <a:rPr b="1" i="1" lang="lv-LV" sz="2400" spc="-1" strike="noStrike" u="sng">
                <a:solidFill>
                  <a:srgbClr val="000000"/>
                </a:solidFill>
                <a:uFillTx/>
                <a:latin typeface="Arial"/>
              </a:rPr>
              <a:t>attiecīgās ārvalsts kompetentās institūcijas izziņu,</a:t>
            </a:r>
            <a:r>
              <a:rPr b="0" i="1" lang="lv-LV" sz="2400" spc="-1" strike="noStrike">
                <a:solidFill>
                  <a:srgbClr val="000000"/>
                </a:solidFill>
                <a:latin typeface="Arial"/>
              </a:rPr>
              <a:t> kas apliecina, ka uz kandidātu vai pretendentu neattiecas šā panta pirmajā daļā noteiktie gadījum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636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C53B4-0CDE-431D-92DA-1833C4538040}" type="slidenum">
              <a:rPr b="0" lang="lv-LV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8280360" cy="1042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3399"/>
                </a:solidFill>
                <a:latin typeface="Arial"/>
              </a:rPr>
              <a:t>Izslēgšanas noteikumu pārbaude</a:t>
            </a:r>
            <a:br>
              <a:rPr sz="3200"/>
            </a:br>
            <a:r>
              <a:rPr b="1" lang="lv-LV" sz="3200" spc="-1" strike="noStrike">
                <a:solidFill>
                  <a:srgbClr val="003399"/>
                </a:solidFill>
                <a:latin typeface="Arial"/>
              </a:rPr>
              <a:t> no 01.01.2014.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47280" y="1580760"/>
            <a:ext cx="796932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2224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Konstatējot nodokļu parādu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224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2240" indent="-285840" algn="just">
              <a:lnSpc>
                <a:spcPct val="90000"/>
              </a:lnSpc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informē kandidātu vai pretendentu par to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2240" indent="0" algn="just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2240" indent="-285840" algn="just">
              <a:lnSpc>
                <a:spcPct val="90000"/>
              </a:lnSpc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nosaka termiņu — 10 darbdienas pēc informācijas izsniegšanas vai nosūtīšanas dienas — </a:t>
            </a:r>
            <a:r>
              <a:rPr b="1" lang="lv-LV" sz="2400" spc="-1" strike="noStrike">
                <a:solidFill>
                  <a:srgbClr val="000000"/>
                </a:solidFill>
                <a:latin typeface="Arial"/>
              </a:rPr>
              <a:t>konstatēto parādu nomaksai un parādu nomaksas apliecinājuma iesniegšana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224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224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Parādu neesamību apliecina ar attiecīgās personas vai tās pārstāvja apliecinātu </a:t>
            </a:r>
            <a:r>
              <a:rPr b="1" lang="lv-LV" sz="2400" spc="-1" strike="noStrike">
                <a:solidFill>
                  <a:srgbClr val="000000"/>
                </a:solidFill>
                <a:latin typeface="Arial"/>
              </a:rPr>
              <a:t>izdruku no VID EDS vai pašvaldības izziņu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. Ja minētais apliecinājums noteiktajā termiņā nav iesniegts, kandidātu vai pretendentu izslēdz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576C8-D682-4DF3-AA5F-7DA421633E6C}" type="slidenum">
              <a:rPr b="0" lang="lv-LV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33080" y="118800"/>
            <a:ext cx="8280360" cy="1042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3399"/>
                </a:solidFill>
                <a:latin typeface="Arial"/>
              </a:rPr>
              <a:t>Izmaiņas izslēgšanas noteikumos </a:t>
            </a:r>
            <a:br>
              <a:rPr sz="3200"/>
            </a:br>
            <a:r>
              <a:rPr b="1" lang="lv-LV" sz="3200" spc="-1" strike="noStrike">
                <a:solidFill>
                  <a:srgbClr val="003399"/>
                </a:solidFill>
                <a:latin typeface="Arial"/>
              </a:rPr>
              <a:t>no 01.08.2013.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14520" y="1523880"/>
            <a:ext cx="7775280" cy="438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0000"/>
                </a:solidFill>
                <a:latin typeface="Arial"/>
              </a:rPr>
              <a:t>Pasūtītājs ir </a:t>
            </a:r>
            <a:r>
              <a:rPr b="1" lang="lv-LV" sz="2700" spc="-1" strike="noStrike" u="sng">
                <a:solidFill>
                  <a:srgbClr val="000000"/>
                </a:solidFill>
                <a:uFillTx/>
                <a:latin typeface="Arial"/>
              </a:rPr>
              <a:t>tiesīgs izslēgt kandidātu vai pretendentu no turpmākās dalības iepirkuma procedūrā</a:t>
            </a:r>
            <a:r>
              <a:rPr b="0" lang="lv-LV" sz="2700" spc="-1" strike="noStrike">
                <a:solidFill>
                  <a:srgbClr val="000000"/>
                </a:solidFill>
                <a:latin typeface="Arial"/>
              </a:rPr>
              <a:t>, ja kandidāts vai pretendents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700" spc="-1" strike="noStrike" u="sng">
                <a:solidFill>
                  <a:srgbClr val="000000"/>
                </a:solidFill>
                <a:uFillTx/>
                <a:latin typeface="Arial"/>
              </a:rPr>
              <a:t>nav pildījis ar šo pasūtītāju noslēgtu iepirkuma līgumu vai vispārīgo vienošanos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700" spc="-1" strike="noStrike" u="sng">
                <a:solidFill>
                  <a:srgbClr val="000000"/>
                </a:solidFill>
                <a:uFillTx/>
                <a:latin typeface="Arial"/>
              </a:rPr>
              <a:t>tādēļ pasūtītājs ir izmantojis iepirkuma līgumā vai vispārīgās vienošanās noteikumos paredzētās tiesības vienpusēji atkāpties no iepirkuma līguma vai vispārīgās vienošanās. (</a:t>
            </a:r>
            <a:r>
              <a:rPr b="0" lang="lv-LV" sz="2700" spc="-1" strike="noStrike" u="sng">
                <a:solidFill>
                  <a:srgbClr val="000000"/>
                </a:solidFill>
                <a:uFillTx/>
                <a:latin typeface="Arial"/>
              </a:rPr>
              <a:t>39.</a:t>
            </a:r>
            <a:r>
              <a:rPr b="0" lang="lv-LV" sz="2700" spc="-1" strike="noStrike" u="sng" baseline="30000">
                <a:solidFill>
                  <a:srgbClr val="000000"/>
                </a:solidFill>
                <a:uFillTx/>
                <a:latin typeface="Arial"/>
              </a:rPr>
              <a:t>2</a:t>
            </a:r>
            <a:r>
              <a:rPr b="0" lang="lv-LV" sz="2700" spc="-1" strike="noStrike" u="sng">
                <a:solidFill>
                  <a:srgbClr val="000000"/>
                </a:solidFill>
                <a:uFillTx/>
                <a:latin typeface="Arial"/>
              </a:rPr>
              <a:t> panta pirmā daļa</a:t>
            </a:r>
            <a:r>
              <a:rPr b="1" lang="lv-LV" sz="2700" spc="-1" strike="noStrike" u="sng">
                <a:solidFill>
                  <a:srgbClr val="000000"/>
                </a:solidFill>
                <a:uFillTx/>
                <a:latin typeface="Arial"/>
              </a:rPr>
              <a:t>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7-05T08:26:47Z</dcterms:created>
  <dc:creator>oskars.putans</dc:creator>
  <dc:description/>
  <dc:language>en-US</dc:language>
  <cp:lastModifiedBy>Agnese Irmeja</cp:lastModifiedBy>
  <dcterms:modified xsi:type="dcterms:W3CDTF">2014-03-13T09:56:59Z</dcterms:modified>
  <cp:revision>147</cp:revision>
  <dc:subject/>
  <dc:title>Grozījumi  PUBLISKO IEPIRKUMU LIKUMĀ</dc:title>
</cp:coreProperties>
</file>